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C6FE-D66B-4E43-9CD6-9FC9F334B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A49A-C501-4B46-ACE3-F001D206D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9ADE-2FC8-45F0-93A2-B4380C602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34E8-7DB2-4A00-AA86-F111E2186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9E24-AD56-4D4C-8892-4DB3A26FF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875B-419C-452F-9728-FF4FBEE94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D82A-94E1-4518-AB2E-4FF342F73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7AD7-1315-405E-A512-3E7B7819B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7A55-45BC-4EAF-80FA-AA4338114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3CC6-76BA-4EE9-B40E-A466AF32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83BF-B532-4308-A302-955B0937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738A-D2F3-4A53-8562-D5938307F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196AE-9D6E-449E-8800-73DBBB455D1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15840"/>
            <a:ext cx="913284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50920" y="1012680"/>
            <a:ext cx="862164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12600"/>
            <a:ext cx="9159840" cy="1228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>
            <a:off x="426960" y="1844640"/>
            <a:ext cx="83930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179280" y="328464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ة سورة الحجر بهذا الاس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ورود قصة أصحاب الحجر في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206280" y="213372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Calibri"/>
              </a:rPr>
              <a:t>الحجر </a:t>
            </a: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99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08080" y="270828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لت سورة الحجر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عد سورة يوسف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250920" y="155736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ورة الحجر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ك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758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سنة الله في الرسالة والرسل وأقوامه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رابط مستقيم 19"/>
          <p:cNvSpPr/>
          <p:nvPr/>
        </p:nvSpPr>
        <p:spPr>
          <a:xfrm>
            <a:off x="8820000" y="1662120"/>
            <a:ext cx="0" cy="208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إبراز طبيعة المكذبين بهذا الدي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توجيه الأنظار إلى التأمل في بعض آيات ال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رابط كسهم مستقيم 12"/>
          <p:cNvCxnSpPr/>
          <p:nvPr/>
        </p:nvCxnSpPr>
        <p:spPr>
          <a:xfrm flipH="1">
            <a:off x="8456040" y="33746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3" name="عنوان 1"/>
          <p:cNvSpPr/>
          <p:nvPr/>
        </p:nvSpPr>
        <p:spPr>
          <a:xfrm>
            <a:off x="250920" y="314172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عرض قصة البشر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رابط كسهم مستقيم 21"/>
          <p:cNvCxnSpPr/>
          <p:nvPr/>
        </p:nvCxnSpPr>
        <p:spPr>
          <a:xfrm flipH="1">
            <a:off x="8456040" y="376668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" name="عنوان 1"/>
          <p:cNvSpPr/>
          <p:nvPr/>
        </p:nvSpPr>
        <p:spPr>
          <a:xfrm>
            <a:off x="250920" y="353376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نبيه على مصارع الغابر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7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758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7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3"/>
          <a:stretch/>
        </p:blipFill>
        <p:spPr>
          <a:xfrm>
            <a:off x="324000" y="1844640"/>
            <a:ext cx="8569080" cy="4608720"/>
          </a:xfrm>
          <a:prstGeom prst="rect">
            <a:avLst/>
          </a:prstGeom>
          <a:ln w="0">
            <a:noFill/>
          </a:ln>
        </p:spPr>
      </p:pic>
      <p:sp>
        <p:nvSpPr>
          <p:cNvPr id="7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00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30T17:48:07Z</dcterms:modified>
  <cp:revision>1819</cp:revision>
  <dc:subject/>
  <dc:title>عرض تقديمي في PowerPoint</dc:title>
</cp:coreProperties>
</file>